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A6E-9AD7-4FFE-AF9A-4BCFA5FD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CE2-AC0B-411B-B025-23039173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43F-A347-4B02-83FE-4F29BB74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739-ADD1-4290-A045-6133B33E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1D2D-929D-44D4-B606-AE6D829A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B08F-B1F4-4621-8FDE-BB102AB2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BD49-3D6B-42FD-9153-76281C66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DF69-FC55-40DD-A9FB-38CF93C5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0CCC-B4DF-4C68-8F69-7E74A2F7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EF45-9CE8-4F49-BCB8-7DBC306D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F381-8A1C-4C40-92BE-2CA9D69D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E3C-67B7-4A3C-8681-49D2434D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7E74-1EAA-43EF-8E46-E4B89878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7C31-444E-4E61-9D64-21810BE1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E960-1C18-41FC-A89E-CA669371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9036-AEBF-42AD-9885-94E407D5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2559-A345-4F03-A989-DD6BFAB3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C34-803C-4409-9A3E-F58A3BF1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750-2E12-4E59-BC0D-18BFFCDD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68A-0B22-49CE-AAFD-EFEA5216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3E4-4477-49DA-BACE-EC2CC724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7FD-220B-499C-B6A7-17926A9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D8C-CFDB-4F40-B0AB-71B4D4C2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431-3E81-40B8-98A7-7480271A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A773-949E-4236-9710-DA11B37319F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503C-4FAB-4296-AF64-55F9385FF39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ns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836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en we got to the theatre, they </a:t>
            </a:r>
            <a:r>
              <a:rPr b="0" lang="en-US" sz="4800" spc="-1" strike="noStrike">
                <a:solidFill>
                  <a:srgbClr val="da0000"/>
                </a:solidFill>
                <a:latin typeface="Arial Black"/>
              </a:rPr>
              <a:t>had sold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all the ticke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1240" y="3213000"/>
            <a:ext cx="7196400" cy="2702520"/>
            <a:chOff x="471240" y="3213000"/>
            <a:chExt cx="7196400" cy="2702520"/>
          </a:xfrm>
        </p:grpSpPr>
        <p:sp>
          <p:nvSpPr>
            <p:cNvPr id="83" name=""/>
            <p:cNvSpPr/>
            <p:nvPr/>
          </p:nvSpPr>
          <p:spPr>
            <a:xfrm>
              <a:off x="539640" y="4508280"/>
              <a:ext cx="712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3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720" y="414792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1240" y="4724280"/>
              <a:ext cx="20581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ad sol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4724280"/>
              <a:ext cx="244800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ot to the theatr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02520" y="4653000"/>
              <a:ext cx="1145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ow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3213000"/>
              <a:ext cx="15523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过去的过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65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8.When I got to the cinema, the film____ for five minu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ga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as on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begu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been on sh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22936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0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9.Class ___ by the time I ____ there, so I took a seat in th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s begun, get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d begun, g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began, go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begins, 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64500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7928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0.Helen ___ her key in the office so she had to wait until her husband___ ho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s left, comes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ft, ha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left, came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left, woul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58136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765000"/>
            <a:ext cx="833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.The pen which I ___ I  ____ is on my desk, right under my nos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ink, lost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ought, had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think, had lost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thought, have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716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692280"/>
            <a:ext cx="8193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y asked me to have a drink with them. I said that it was at least ten years since I ____ a good drin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068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20640"/>
            <a:ext cx="8408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ow long __ each other before they ___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For about a y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ve they known;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did they know; we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do they know; a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they known; g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44500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1341360"/>
            <a:ext cx="808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en Jack arrived he learned Mary ___ for almost an hou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g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t o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le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a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013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98100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Did you tell your brother where she ___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Yes, but I didn’t tell him she ___ until next we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. has gone; w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B. went; d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had been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. had gone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83664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 wife ___ to catch the first train but she was too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ould h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68436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653000"/>
            <a:ext cx="8551800" cy="1191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d hope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意为“原希望”，常用于这一结构的动词有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hink, want, plan, suppose, inten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916280"/>
            <a:ext cx="78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完成时是一种与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过去时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相比较而存在的时态，用以表示“过去的过去”的动作或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773360"/>
            <a:ext cx="84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.When we _____(arrive) at the theatre, the play ____(already start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365720"/>
            <a:ext cx="575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arrived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had already sta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0480"/>
            <a:ext cx="8264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.The police found that the house ___and a lot of things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s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had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940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Tom didn't go to hear the singer because he___ him.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eard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hea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heard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he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928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4.---Why didn't you come to the par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-I___ to come, but one of my friends came to see me just th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wanted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was wan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been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00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333360"/>
            <a:ext cx="720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5.Sorry,I've eaten up the food. I___ that     he  wouldn't b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nk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hin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d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724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112536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6.When we got to his home, we learned 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 for almost an ho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nt   B. had gone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been a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s g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76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76280"/>
            <a:ext cx="876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7.---Did you meet John here at the universi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No, we___ when I started colle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ve already met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would mee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8972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31:57Z</dcterms:created>
  <dc:creator>Legend User</dc:creator>
  <dc:description/>
  <dc:language>en-US</dc:language>
  <cp:lastModifiedBy>Legend User</cp:lastModifiedBy>
  <dcterms:modified xsi:type="dcterms:W3CDTF">2002-12-10T13:06:31Z</dcterms:modified>
  <cp:revision>18</cp:revision>
  <dc:subject/>
  <dc:title>幻灯片 1</dc:title>
</cp:coreProperties>
</file>